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FFA7-5A86-44CD-9D1F-76C383B867E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of Straight 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graph equations and find equations from graph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bles of 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able of values is used to generate poi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points can be plotted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traight line drawn through these points creates the graph of the equ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Graph y = 2x –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ot these points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straight line through the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erci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 the following straight lin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3x –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2x +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x –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-3x +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a relationship between the graphs and their algebraic expressions!!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dient-Intercept Form of a Straight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linear function is written in the for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mx +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 is its gradient and the b is its y-intercep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’s the Equ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e following graphs, determine their equ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2B22-C36F-41C0-B9D6-B0C6D238F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92F3-FF7D-4C59-BFF0-F28AC714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9150-E6B9-4029-8E69-04901BBE1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3FDA-0821-412E-87E3-CCA4397F9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640D-E1D7-4C8C-A6FB-A8624696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936B-45DF-441D-ADA9-FC008016B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92EC-5B42-43C3-95B8-31A381A4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4F32-C2BA-4C9C-AFB0-129880C3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CDFF-8017-4139-AE7D-0C405105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2555-7D65-498E-A978-7077697D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BF67-E238-443A-B6F0-2075AC5C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E3CD-576F-4B48-9297-4113CF1D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0ACE-52B9-4E4B-903C-B83A9A1B9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7360" y="518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s of Straight 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81080" y="2666880"/>
            <a:ext cx="69660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w to graph equations and find equations from graph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1301760" y="404640"/>
            <a:ext cx="6429240" cy="58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330200" y="420840"/>
            <a:ext cx="64771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1330200" y="479520"/>
            <a:ext cx="6462720" cy="58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1374840" y="477720"/>
            <a:ext cx="636588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bles of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able of values is used to generate 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points can be plotted on the coordinate pla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raight line drawn through these points creates the graph of the eq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= 2x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332000" y="2708280"/>
          <a:ext cx="6635520" cy="2192400"/>
        </p:xfrm>
        <a:graphic>
          <a:graphicData uri="http://schemas.openxmlformats.org/drawingml/2006/table">
            <a:tbl>
              <a:tblPr/>
              <a:tblGrid>
                <a:gridCol w="1106280"/>
                <a:gridCol w="1105200"/>
                <a:gridCol w="1106280"/>
                <a:gridCol w="1106640"/>
                <a:gridCol w="1104840"/>
                <a:gridCol w="1106280"/>
              </a:tblGrid>
              <a:tr h="10969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Text Box 30"/>
          <p:cNvSpPr/>
          <p:nvPr/>
        </p:nvSpPr>
        <p:spPr>
          <a:xfrm>
            <a:off x="2700360" y="4076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1"/>
          <p:cNvSpPr/>
          <p:nvPr/>
        </p:nvSpPr>
        <p:spPr>
          <a:xfrm>
            <a:off x="3708360" y="4076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2"/>
          <p:cNvSpPr/>
          <p:nvPr/>
        </p:nvSpPr>
        <p:spPr>
          <a:xfrm>
            <a:off x="4932360" y="4076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3"/>
          <p:cNvSpPr/>
          <p:nvPr/>
        </p:nvSpPr>
        <p:spPr>
          <a:xfrm>
            <a:off x="6084720" y="40734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4"/>
          <p:cNvSpPr/>
          <p:nvPr/>
        </p:nvSpPr>
        <p:spPr>
          <a:xfrm>
            <a:off x="7164360" y="4076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367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ot these points on the coordinate 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3419640" y="1268280"/>
            <a:ext cx="5352840" cy="486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324000" y="1700280"/>
          <a:ext cx="2952720" cy="792000"/>
        </p:xfrm>
        <a:graphic>
          <a:graphicData uri="http://schemas.openxmlformats.org/drawingml/2006/table">
            <a:tbl>
              <a:tblPr/>
              <a:tblGrid>
                <a:gridCol w="492120"/>
                <a:gridCol w="490320"/>
                <a:gridCol w="493920"/>
                <a:gridCol w="493560"/>
                <a:gridCol w="490680"/>
                <a:gridCol w="492120"/>
              </a:tblGrid>
              <a:tr h="3967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Oval 87"/>
          <p:cNvSpPr/>
          <p:nvPr/>
        </p:nvSpPr>
        <p:spPr>
          <a:xfrm>
            <a:off x="6329520" y="4498920"/>
            <a:ext cx="9036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88"/>
          <p:cNvSpPr/>
          <p:nvPr/>
        </p:nvSpPr>
        <p:spPr>
          <a:xfrm>
            <a:off x="6621480" y="3933720"/>
            <a:ext cx="90360" cy="82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89"/>
          <p:cNvSpPr/>
          <p:nvPr/>
        </p:nvSpPr>
        <p:spPr>
          <a:xfrm>
            <a:off x="6897600" y="3381480"/>
            <a:ext cx="9072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90"/>
          <p:cNvSpPr/>
          <p:nvPr/>
        </p:nvSpPr>
        <p:spPr>
          <a:xfrm>
            <a:off x="7183440" y="2819520"/>
            <a:ext cx="9036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91"/>
          <p:cNvSpPr/>
          <p:nvPr/>
        </p:nvSpPr>
        <p:spPr>
          <a:xfrm>
            <a:off x="7459560" y="2247840"/>
            <a:ext cx="9072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2808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straight line through the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3419640" y="1268280"/>
            <a:ext cx="5352840" cy="4864320"/>
          </a:xfrm>
          <a:prstGeom prst="rect">
            <a:avLst/>
          </a:prstGeom>
          <a:ln w="0">
            <a:noFill/>
          </a:ln>
        </p:spPr>
      </p:pic>
      <p:sp>
        <p:nvSpPr>
          <p:cNvPr id="70" name="Oval 5"/>
          <p:cNvSpPr/>
          <p:nvPr/>
        </p:nvSpPr>
        <p:spPr>
          <a:xfrm>
            <a:off x="6329520" y="4498920"/>
            <a:ext cx="9036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6"/>
          <p:cNvSpPr/>
          <p:nvPr/>
        </p:nvSpPr>
        <p:spPr>
          <a:xfrm>
            <a:off x="6621480" y="3933720"/>
            <a:ext cx="90360" cy="82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7"/>
          <p:cNvSpPr/>
          <p:nvPr/>
        </p:nvSpPr>
        <p:spPr>
          <a:xfrm>
            <a:off x="6897600" y="3381480"/>
            <a:ext cx="9072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8"/>
          <p:cNvSpPr/>
          <p:nvPr/>
        </p:nvSpPr>
        <p:spPr>
          <a:xfrm>
            <a:off x="7183440" y="2819520"/>
            <a:ext cx="9036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9"/>
          <p:cNvSpPr/>
          <p:nvPr/>
        </p:nvSpPr>
        <p:spPr>
          <a:xfrm>
            <a:off x="7459560" y="2247840"/>
            <a:ext cx="90720" cy="824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0"/>
          <p:cNvSpPr/>
          <p:nvPr/>
        </p:nvSpPr>
        <p:spPr>
          <a:xfrm flipV="1">
            <a:off x="5819760" y="1495080"/>
            <a:ext cx="2067120" cy="4172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xerc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6694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the following straight li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= 3x –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= 2x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= x –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= -3x 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7"/>
              <p:cNvSpPr txBox="1"/>
              <p:nvPr/>
            </p:nvSpPr>
            <p:spPr>
              <a:xfrm>
                <a:off x="1076400" y="4581360"/>
                <a:ext cx="151452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Text Box 9"/>
          <p:cNvSpPr/>
          <p:nvPr/>
        </p:nvSpPr>
        <p:spPr>
          <a:xfrm>
            <a:off x="5064120" y="2511360"/>
            <a:ext cx="270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ook for a relationship between the graphs and their algebraic expressions!!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mph" presetID="3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5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e Gradient-Intercept Form of a Straight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71600" y="2195640"/>
            <a:ext cx="8113680" cy="195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linear function is written in the fo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 = mx +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its gradient and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its y-interce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What’s the Equ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following graphs, determine their equ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257480" y="406440"/>
            <a:ext cx="6462360" cy="58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23:49:26Z</dcterms:created>
  <dc:creator>sgarvey</dc:creator>
  <dc:description/>
  <dc:language>en-US</dc:language>
  <cp:lastModifiedBy>RomaK</cp:lastModifiedBy>
  <dcterms:modified xsi:type="dcterms:W3CDTF">2015-09-04T07:41:46Z</dcterms:modified>
  <cp:revision>22</cp:revision>
  <dc:subject/>
  <dc:title>Graphs of Straight Lines</dc:title>
</cp:coreProperties>
</file>